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CF3-C3AC-41ED-905A-B40033F3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193-9932-4936-AD05-FF0A2B61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AB7-B284-4A86-ADAA-E1F6162E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222-86FE-42A0-A4AA-01785AD8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1F73-117A-460E-9BEA-E472866B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6EA-81F2-4235-B500-CEF1B9A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2675-4F6B-42EE-B05F-381E579C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226-8344-4D2F-B681-D58F21B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FD54-393C-4261-8395-9D705F5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B40D-0A18-4821-9FAA-9D0E7F3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F62-7770-426F-B913-8A701DB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5FE-2D87-48BE-AE0F-22A8EDE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9D8-66ED-4631-8114-AEC8655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9B50-E10A-483A-A1BC-E9921A0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8FD8-C485-4968-9B79-08C160EC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2B8-808C-4E82-9567-F8699146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63F5-175E-4018-BA91-4F1C6569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99151-B81D-4139-B820-7FF0AE8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88F6-3A4D-4860-84D0-33E945EE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91DA-2004-4609-88D0-3028BA6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49CB-A79F-4896-AF92-407F4E3D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361B-6782-44D2-A801-6519DF8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F35-F0AC-4821-B645-E0E192B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0515-546F-49CC-99F6-7E1DEE5B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0820-E9BB-403E-9103-BABF3A63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3CA9-D5BB-4019-A884-2A5DB14B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5074-0548-4C5E-9D8C-FD8EF4B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0C7A4-9B1C-4D64-ACBF-3D00AD61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4A9B-8190-48AE-A3C1-BCD50FC7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CEA5-373B-436D-AE2F-34C594AC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F00-52F9-443C-A1F4-97E677DF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610-1A59-48D1-B3D4-150FE93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409-0CE7-4752-B83D-CB40FF8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408-C3C7-47F6-8B37-1D076FD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2F5-DA32-4CCB-B666-64AD32A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7B9-D3F8-4C8B-B262-0CAECC46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A3B3-5F23-44BD-9130-F0C1FEE81E5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935-B781-4454-BF29-17F5CBE5EA4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4143-310A-4CDC-A6F6-EF617A5B004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lue Wha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5" descr="whale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3 things I know about the anim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e under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hu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more than 1, 000, 000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3 things I found on the internet about my animal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the largest mamm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prefer warmer wat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eat krill, small fish, and squ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wild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oogle ima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48:05Z</dcterms:created>
  <dc:creator>T.A.Sinas</dc:creator>
  <dc:description/>
  <dc:language>en-US</dc:language>
  <cp:lastModifiedBy>Robyn MacFarlane</cp:lastModifiedBy>
  <dcterms:modified xsi:type="dcterms:W3CDTF">2012-10-29T22:17:41Z</dcterms:modified>
  <cp:revision>3</cp:revision>
  <dc:subject/>
  <dc:title>Blue Whale</dc:title>
</cp:coreProperties>
</file>